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537-C3D0-4DA0-AD33-7FF17EF2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FB6-1BCA-4943-8442-1FE01FD7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41E-66C2-4AFF-832A-6640BE60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D79-FB89-4E5E-AC96-FA3D49EF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781-A94B-4F8A-90FE-9DFF408F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B6C-CBC3-4C02-9625-C81B5A4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528-C5C7-49F3-9110-7A199AE3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7B9-570C-4ED6-8E16-5329AA04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40B-A5BF-4576-BABB-06AFD32F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F9E-E843-41C7-B362-93EDFCE0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149-2FED-4239-BBD5-5D0266B7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032-BE32-4110-900A-EFC26E75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8C04-43EE-4751-B84C-1948995161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sson 18 Lost in the 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ory 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have a sister. Her name is Kit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e lives in the city. I miss her very much. Today, I am going to visit 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re are many new streets in the city. Where is my sister’s ho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meet a nice dog. The dog says, “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ok! Go straight and turn lef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549360"/>
            <a:ext cx="244944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use 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2205000"/>
            <a:ext cx="1800000" cy="863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060640"/>
            <a:ext cx="3600360" cy="1368360"/>
          </a:xfrm>
          <a:prstGeom prst="wedgeRoundRectCallout">
            <a:avLst>
              <a:gd name="adj1" fmla="val -43518"/>
              <a:gd name="adj2" fmla="val 95245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lost. Where is the NIC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when I get there, I see the MICE house, not the NICE house. Oh n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6440400" cy="17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41497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meet an old bird. The old bird says, “Go straight and turn right at the traffic lights. Then you will see the NICE house on the lef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692280"/>
            <a:ext cx="295308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use me, where is the NICE ho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2852640"/>
            <a:ext cx="2374920" cy="8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1628640"/>
            <a:ext cx="2808360" cy="8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ll show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789360"/>
            <a:ext cx="752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I get to the NICE house. My sister is happy to see me. I say, “What a big city! I got lost, but a dog and a bird helped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1268280"/>
            <a:ext cx="2592360" cy="93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missed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2133720"/>
            <a:ext cx="338472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missed you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nd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777564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helps the cat find the NICE ho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 out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8:08:07Z</dcterms:created>
  <dc:creator/>
  <dc:description/>
  <dc:language>en-US</dc:language>
  <cp:lastModifiedBy/>
  <dcterms:modified xsi:type="dcterms:W3CDTF">2018-08-18T03:10:40Z</dcterms:modified>
  <cp:revision>4</cp:revision>
  <dc:subject/>
  <dc:title/>
</cp:coreProperties>
</file>